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D949-6D09-464A-906D-189A53F70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DA69-6B10-463B-B7D5-2D0C1A115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4752-9917-42D0-BB20-F6F427508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CE39-513E-4359-98D5-F1426F7C2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8247-71AE-4511-9BB7-676051FDA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5076-574B-4E89-9E28-984906003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D9D1-ACFA-4F3D-B67E-F264C1EE1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B154-A08E-4269-9A78-C7A20D5F8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E3D3-ED53-4247-9268-70380F781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CFCF-0A23-46D0-A95D-91BA0E5CD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3823-A789-4691-A936-69C358CB0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5AB4-2EFF-446F-9746-106C47624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DC2F8-1FE8-434E-B4C3-79B1C8C821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munity Ec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. 5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utualis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+ / +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 species gain from their interaction in some way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od    Protection     Reproductive advant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aptations can evolve to better suit species togeth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Flowers &amp; pollin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utualis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228600" y="2209680"/>
            <a:ext cx="3790800" cy="28371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5029200" y="1371600"/>
            <a:ext cx="3809880" cy="26290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4876920" y="4019400"/>
            <a:ext cx="4267080" cy="28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mensalis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+ / 0   One benefits, other unaffec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ERY difficult to prove since it is rare that any interaction will have no effect on one speci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ually can be described as one of the other interactions if carefully analyz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pecies with High Impac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inant Species: Numerous and exert control by their abundance &amp; skill at acquiring resources &amp; reproduc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gar Maples in North Ameri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vasive Species: Non-native, introduced naturally or artificially. Have no natural predato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Zebra mussels on coasts of Californ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pecies with High Impac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228600" y="99072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eystone Species: Exert control by their ability to keep other organisms ‘in check’ or provide a resource vital to the commun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lankt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ndation Species: Alter the environment physicall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av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6477120" y="2743200"/>
            <a:ext cx="238572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sturbances &amp; Consequen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y event that changes a commun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move specie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r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loo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tural disturbances can be benefic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res promote more grow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lash-floods induce desert blo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sturbances &amp; Consequen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disturbances lead to new resources/niches not available befo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 result in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Secondary Succes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isting community is cleared or made more available for other species to re-coloniz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il remains intact so the problem of re-establishing producers is not sever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sturbances &amp; Consequen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 result in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Primary Succes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isting community is stripped down to a lifeless area.  Lava flow is major cau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il is destroyed so must be regener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ery timely proc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cteria, Lichens &amp; mosses are the pioneer species which begin the formation of soil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muni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pulations of organisms that live close enough so that interactions can happen between the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114800" y="2895480"/>
            <a:ext cx="428616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specific Interac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actions between different spec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edat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rasitis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raspecific = Interactions among a pop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tin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Pla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muni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specific Interac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noted by how each potential species will eb affec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+ / +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+ / 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+ / 0            - / 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et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/ -   Both species may be harmed/kil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+ / -   One species wins while the other loses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447920" y="3048120"/>
            <a:ext cx="533376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dation &amp; Herbivo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+ / -   One species eats while the other is eat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/ -  The predator loses to the prey, therefore does not eat/is harmed while the prey lives on but had to expend energy/sustain damage to stay aliv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28600" y="152280"/>
            <a:ext cx="5029200" cy="32767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5477040" y="2743200"/>
            <a:ext cx="36669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rasitis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+ / -  One organism obtains its nutrients from the body of a host, leaving the host harm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doparasites: Tapewor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toparasites: Tic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asitoidism: Species (usually insects) lays eggs on a host and larvae eat the hos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5943600" y="2666880"/>
            <a:ext cx="32004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se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286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+ / -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ganisms such as bacteria &amp; fungi &amp; viru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rive nutrition or habitat from a host, leaving the host very harmed and perhaps dea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952880" y="3962520"/>
            <a:ext cx="4038840" cy="27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7T19:32:22Z</dcterms:created>
  <dc:creator>leanne</dc:creator>
  <dc:description/>
  <dc:language>en-US</dc:language>
  <cp:lastModifiedBy>NASD</cp:lastModifiedBy>
  <dcterms:modified xsi:type="dcterms:W3CDTF">2010-04-08T12:21:41Z</dcterms:modified>
  <cp:revision>6</cp:revision>
  <dc:subject/>
  <dc:title>Community Ecology</dc:title>
</cp:coreProperties>
</file>